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659-B031-473B-A9DA-BF89CD53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CEE-658C-4F83-9482-872D37C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EF0-1353-4540-BB59-E866BDA7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B9F-9650-4242-9BDF-0F0AA210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4A1D-6918-437D-92AD-FA417A4D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03B6-F41D-44A0-BC53-F094F0F5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E8E0-98C7-4E3A-A9A9-A0844A7B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F3E-51BA-4C05-9C76-3D97ACE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A4BD-0024-4E5D-B230-E9E8C73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816A-77E3-46CE-981B-7573D04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196-8DEE-4EA1-A8FD-AEB316D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173-E7D9-448F-A348-7C4A6DC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CFBE-2980-4D82-B40D-6D520F1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D556-D516-4D5B-B993-7CE0022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1C9-602D-4375-B20A-EBACC186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912A-68B1-4983-9E8D-799A57D0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5A51-91D2-49B2-B9B2-B26CB43D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400-2C81-4D72-88D1-05A93858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48B-4519-4666-AFDB-3A4065D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92A-A7E3-4D18-8B4F-CA75937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212-1B52-455C-9DB6-5416392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D49-0DD8-4407-83A1-B290F29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9DC-F976-4792-8657-D44E3A2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F1B-E4D7-4AAF-B6EB-BA8BC4A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1921-1F70-4316-BF14-3EA9DD3675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78D8-77EA-4107-9C50-4E42930B15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аспорт музея школы №34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4" descr="DSC00112"/>
          <p:cNvPicPr/>
          <p:nvPr/>
        </p:nvPicPr>
        <p:blipFill>
          <a:blip r:embed="rId1"/>
          <a:stretch/>
        </p:blipFill>
        <p:spPr>
          <a:xfrm>
            <a:off x="1905120" y="18288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Акция «Георгиевская ленточка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0" name="Picture 2" descr="G:\деятельность Чеснаковой 2012-2013\Георгиевская лента, выставка  ко  Дню  Победы\SAM_2713.JPG"/>
          <p:cNvPicPr/>
          <p:nvPr/>
        </p:nvPicPr>
        <p:blipFill>
          <a:blip r:embed="rId1"/>
          <a:stretch/>
        </p:blipFill>
        <p:spPr>
          <a:xfrm>
            <a:off x="5200560" y="1498680"/>
            <a:ext cx="3562560" cy="474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G:\деятельность Чеснаковой 2012-2013\Георгиевская лента, выставка  ко  Дню  Победы\SAM_2705.JPG"/>
          <p:cNvPicPr/>
          <p:nvPr/>
        </p:nvPicPr>
        <p:blipFill>
          <a:blip r:embed="rId2"/>
          <a:stretch/>
        </p:blipFill>
        <p:spPr>
          <a:xfrm>
            <a:off x="1066680" y="1479600"/>
            <a:ext cx="3429000" cy="4803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158920" y="6401160"/>
            <a:ext cx="52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ция проведена по  инициативе актива школьного  музе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стреча с ветеранами  микрорайон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Picture 2" descr="http://school34.ucoz.ru/_ph/4/746457602.jpg"/>
          <p:cNvPicPr/>
          <p:nvPr/>
        </p:nvPicPr>
        <p:blipFill>
          <a:blip r:embed="rId1"/>
          <a:stretch/>
        </p:blipFill>
        <p:spPr>
          <a:xfrm>
            <a:off x="1573200" y="1616040"/>
            <a:ext cx="5997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рестьянская война в Оренбуржье (1773-1775гг.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Picture 2" descr="G:\деятельность Чеснаковой 2012-2013\обновленный стенд -кр.война\P1020210.JPG"/>
          <p:cNvPicPr/>
          <p:nvPr/>
        </p:nvPicPr>
        <p:blipFill>
          <a:blip r:embed="rId1"/>
          <a:stretch/>
        </p:blipFill>
        <p:spPr>
          <a:xfrm>
            <a:off x="533520" y="1782720"/>
            <a:ext cx="3962160" cy="507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E:\1812 ВИКТОРИНА и фото\Новая папка (2)\P1020220.JPG"/>
          <p:cNvPicPr/>
          <p:nvPr/>
        </p:nvPicPr>
        <p:blipFill>
          <a:blip r:embed="rId2"/>
          <a:stretch/>
        </p:blipFill>
        <p:spPr>
          <a:xfrm>
            <a:off x="4648320" y="2666880"/>
            <a:ext cx="4190760" cy="2925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4419720" y="57168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новленная  экспозиция «Крестьянская  война в Оренбуржье»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Тематика исследовательских и проектных рабо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ознание, краевед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«Имя на карт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логия, краевед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й проект по теме «Энциклопедия слова «Урал»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, краевед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по теме «Что несет в себе символика Оренбургского  казачества» 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127080" y="10152000"/>
            <a:ext cx="228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6854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тельский проект по теме «Давно ушли минувшие года, но боевая слава легендарна » (о боевом пути прадедуш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еведение, истор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по теме «Особенности оренбургских топонимов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айд-шо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еведение, ИЗ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тельский  проект  «Город будуще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Посещаемость  музе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-ВО ПОСЕТИТЕЛЕЙ  В Г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-ВО  ЭКСКУРСИЙ  В  ГОД  -       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-ВО  УРОКОВ  НА  БАЗЕ  МУЗЕЯ –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лагодарим  за  внимани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ив  школьного  музе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БУ  СОШ  №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видетельство  о  присвоении звания  «Школьный  музей»  № 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ниги  учета  музейных  экспонатов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нига  отзывов  и  предложен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4582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Урок в школьном  музее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1" name="Picture 2" descr="G:\деятельность Чеснаковой 2012-2013\внеурочка-музейные уроки\SAM_1571.JPG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45309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4952880" y="57150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к в 1 кл. ведет Чеснакова  Е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абота актива школьного  музе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4" name="Picture 2" descr="G:\деятельность Чеснаковой 2012-2013\внеурочка-музейные уроки\P1020129.JPG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609480" y="5943600"/>
            <a:ext cx="23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ормление выстав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Экскурсия в школьном  музее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7" name="Picture 2" descr="G:\деятельность Чеснаковой 2012-2013\экскурсия - моя  родословная\P1020123.JPG"/>
          <p:cNvPicPr/>
          <p:nvPr/>
        </p:nvPicPr>
        <p:blipFill>
          <a:blip r:embed="rId1"/>
          <a:stretch/>
        </p:blipFill>
        <p:spPr>
          <a:xfrm>
            <a:off x="585720" y="4038480"/>
            <a:ext cx="4010040" cy="25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G:\деятельность Чеснаковой 2012-2013\экскурсия - моя  родословная\P1020125.JPG"/>
          <p:cNvPicPr/>
          <p:nvPr/>
        </p:nvPicPr>
        <p:blipFill>
          <a:blip r:embed="rId2"/>
          <a:stretch/>
        </p:blipFill>
        <p:spPr>
          <a:xfrm>
            <a:off x="4876920" y="13716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G:\деятельность Чеснаковой 2012-2013\экскурсия - моя  родословная\P1020126.JPG"/>
          <p:cNvPicPr/>
          <p:nvPr/>
        </p:nvPicPr>
        <p:blipFill>
          <a:blip r:embed="rId3"/>
          <a:stretch/>
        </p:blipFill>
        <p:spPr>
          <a:xfrm>
            <a:off x="609480" y="1371600"/>
            <a:ext cx="396252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410080" y="502920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курсовод – Мельников Арка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ставка –Оренбургу  270 лет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2" name="Picture 3" descr="G:\деятельность Чеснаковой 2012-2013\выставка   - оренбургу -270лет 21.03.13\2013-03-21-127.jpg"/>
          <p:cNvPicPr/>
          <p:nvPr/>
        </p:nvPicPr>
        <p:blipFill>
          <a:blip r:embed="rId1"/>
          <a:stretch/>
        </p:blipFill>
        <p:spPr>
          <a:xfrm>
            <a:off x="228600" y="144792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G:\деятельность Чеснаковой 2012-2013\выставка   - оренбургу -270лет 21.03.13\SAM_1632.JPG"/>
          <p:cNvPicPr/>
          <p:nvPr/>
        </p:nvPicPr>
        <p:blipFill>
          <a:blip r:embed="rId2"/>
          <a:stretch/>
        </p:blipFill>
        <p:spPr>
          <a:xfrm>
            <a:off x="5181480" y="2362320"/>
            <a:ext cx="37339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9 мая День  Победы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Picture 4" descr="G:\деятельность Чеснаковой 2012-2013\Георгиевская лента, выставка  ко  Дню  Победы\P1020229.JPG"/>
          <p:cNvPicPr/>
          <p:nvPr/>
        </p:nvPicPr>
        <p:blipFill>
          <a:blip r:embed="rId1"/>
          <a:stretch/>
        </p:blipFill>
        <p:spPr>
          <a:xfrm>
            <a:off x="609480" y="1066680"/>
            <a:ext cx="3276720" cy="3251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G:\деятельность Чеснаковой 2012-2013\Георгиевская лента, выставка  ко  Дню  Победы\P1020230.JPG"/>
          <p:cNvPicPr/>
          <p:nvPr/>
        </p:nvPicPr>
        <p:blipFill>
          <a:blip r:embed="rId2"/>
          <a:stretch/>
        </p:blipFill>
        <p:spPr>
          <a:xfrm>
            <a:off x="609480" y="4384800"/>
            <a:ext cx="3276720" cy="234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G:\деятельность Чеснаковой 2012-2013\Георгиевская лента, выставка  ко  Дню  Победы\SAM_2711.JPG"/>
          <p:cNvPicPr/>
          <p:nvPr/>
        </p:nvPicPr>
        <p:blipFill>
          <a:blip r:embed="rId3"/>
          <a:stretch/>
        </p:blipFill>
        <p:spPr>
          <a:xfrm>
            <a:off x="4724280" y="1066680"/>
            <a:ext cx="4267440" cy="5156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4743360" y="627552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Экспозиция подготовленная ко  Дню  Побед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me-SAN</cp:lastModifiedBy>
  <dcterms:modified xsi:type="dcterms:W3CDTF">2017-09-27T04:34:5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d0000000000010261200207f7000400038000</vt:lpwstr>
  </property>
  <property fmtid="{D5CDD505-2E9C-101B-9397-08002B2CF9AE}" pid="3" name="Version">
    <vt:r8>1</vt:r8>
  </property>
</Properties>
</file>